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0E1-04D0-4DD8-AE70-BFBF42FF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1635-DAFA-488D-ADBF-F8716776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E45-ECE0-461C-8E12-E6CF505C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2D9-D287-4F2A-984C-50B88A62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2938-B6CF-4B99-A850-86F4FD02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1032-D089-4799-BFBA-F62535A4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0224-3CC4-43FA-BA04-E00A43BD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1D86-ACBA-4278-9354-E22DD4AB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95A8-1371-488F-9EC5-24EE6ED6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4BC4-BD26-4A79-BD1A-92483296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42E4-F3B4-497B-B934-273285DA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42D-6DB1-4293-BB94-36F11120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E718-32AD-4987-AA80-48342E62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408C-8837-4A96-A4AA-A1A57F51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D2D7-8C66-4AD5-AAB4-8ECC282D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BA02-51AF-44E7-814D-AF6F5609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3C05-AADA-4084-AB33-66892033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6C4-6941-4175-8BAE-8E7B57A8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055-7AFE-47CC-9D17-37E722DE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E1F-6259-4D0E-BF32-E459668C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44E-39A5-4A95-BC2D-B008456E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562-8F6F-4423-83A0-45628790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40E-713C-4FEA-B0DF-895C600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AB1-B96F-46B8-8DD6-5A5DA4C5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9C7C-F6F4-4658-B27F-999DA12F5E0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403E-C061-4B0A-A4BE-9FECBB44991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«Законы по которым мы живем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ОБЯЗАННОСТИ УЧЕН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Добросовестное отношение к учеб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Соблюдение школьного режи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Ученик должен уважать всех участников образовательного процесс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733920" y="4267080"/>
            <a:ext cx="4481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Семья—это тоже маленькое государство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34290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429000" cy="4183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880" y="2104560"/>
            <a:ext cx="281952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Каждый ребенок имеет право на родительское внимание, любовь и з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3936240"/>
            <a:ext cx="27432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А обязанность -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любить и уважать своих близких, быть послушным и помогать родите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ЗАКО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равило, установленное государством и подлежащее обязательному выполнению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Картинки по запросу законы картинки для детей"/>
          <p:cNvPicPr/>
          <p:nvPr/>
        </p:nvPicPr>
        <p:blipFill>
          <a:blip r:embed="rId1"/>
          <a:stretch/>
        </p:blipFill>
        <p:spPr>
          <a:xfrm>
            <a:off x="1447920" y="3200400"/>
            <a:ext cx="6095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ОСНОВНОЙ ЗАКОН ГОСУДАРСТВ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КОНСТИТУЦ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РОССИЙСКО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ФЕДЕРА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309000">
            <a:off x="6095880" y="2285640"/>
            <a:ext cx="18259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Конституция определяет наши пра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00360"/>
            <a:ext cx="7696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8080" y="1800360"/>
            <a:ext cx="7696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РАВО  -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ЭТО ТО, ЧТО ТЫ МОЖЕШЬ ДЕЛАТ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 rot="1384200">
            <a:off x="5089680" y="3730320"/>
            <a:ext cx="3200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Обязанность 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lvl="4" marL="119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это то, что ты должен делат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4" marL="119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5105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212840" y="1828800"/>
            <a:ext cx="6640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 rot="414600">
            <a:off x="1212480" y="1828440"/>
            <a:ext cx="6640560" cy="3657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90720" y="351000"/>
            <a:ext cx="678168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основной Закон школы – это Уст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Устав - это свод правил, регулирующих организацию и порядок деятельности учрежд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 rot="20716800">
            <a:off x="4210200" y="3120840"/>
            <a:ext cx="3886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РАВА УЧЕН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На  бесплатное образов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На создание условий для охраны и укрепления здоров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На организацию пит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На отдых и оздоров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На уважение со стороны учителей и всех работников учрежд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 rot="20914200">
            <a:off x="-152280" y="-152280"/>
            <a:ext cx="3095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9-29T09:31:3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